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812-57C6-4265-89ED-886F2C0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B17-CE96-45BB-AAF4-2F9337C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CF1-08F0-410D-9044-85868EE6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667-CF75-43F7-8451-3F46B339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C6B1-0207-4F4B-ACF0-20F65986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4DE9-B560-4448-8702-0ED3DC6A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9591-E057-464F-AE16-2456184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E17C-43B4-4BA6-AFE4-CFF58E0D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24D9-FE65-41B5-A0D7-CF5EE0A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EE04-DAA5-47D3-BBB3-A4EC16A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8D3-FD64-4A42-9BA2-7BCC2C6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BDB-2F3A-4B41-A7D6-1858D014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70D6-258E-4A37-A0D5-A91C59A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12D1-C1EF-47F2-8063-D4288EB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D23-A6AE-435A-AFBB-A195BA0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E12-C192-496D-9F50-E50EEE42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0205-F899-4C9B-8FBA-0EA0B4CA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DF0-F9C1-472C-971E-EF225F7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07A-348D-4C42-8F89-D6AFAEA4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7DE-7718-43BD-BEB8-38EBB2B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864-CB51-4168-BBCB-C69FDFC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68A-2C89-4630-9736-102F53E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FF8-4AF0-400C-804C-0E08056E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E05-C6DB-4BC9-AD7B-C47CF16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31A-6C43-4E11-B694-249FCFBB4A73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65CC-4664-4646-B8E4-B91C99A425F7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sound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rutherford/" TargetMode="External"/><Relationship Id="rId2" Type="http://schemas.openxmlformats.org/officeDocument/2006/relationships/hyperlink" Target="http://www.aip.org/history/electron/jjrutha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w.com/science/physcitutor/demo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tomic Models and Radioactivit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EA AS 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Chap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ere d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contains a positive charge in its centre or nucleus that deflects alpha particles (which are positively charg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re few bounced directly back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 must be small and densely packed so only a few alpha particles hit it directly head-on and bounc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48360" y="1700280"/>
            <a:ext cx="3744720" cy="36417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therford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nucleus surrounded by orbiting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9275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Rea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dioactive Dec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spontaneous emission of particles from the nucleus of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ar Fi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litting one large nuclei into two small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ar 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mbining two small nuclei into one large 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t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am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in order of their dis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pha and beta decay don’t usually occur by themselves, there is usually some gamma that occurs with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mall atoms, the number of protons and neutrons are usually the same (roug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arger atoms, there are usually many more neutrons than protons, in order to keep the nucleus st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nucleus is unstable, it may spontaneously decay to something more stable by emitting alpha, beta or gamma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alphaparticle.gif"/>
          <p:cNvPicPr/>
          <p:nvPr/>
        </p:nvPicPr>
        <p:blipFill>
          <a:blip r:embed="rId1"/>
          <a:stretch/>
        </p:blipFill>
        <p:spPr>
          <a:xfrm>
            <a:off x="755640" y="115920"/>
            <a:ext cx="1400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pha Partic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ium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of 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4 (a.m.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slowly ie. 10% of light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travel very far ie. A few cm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enetration power – can be stopped by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good ionising power – because they’re big and s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ta Partic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n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of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 as an electron (effectively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relatively fast – up to 95% of light 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about 30 cm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enetration power – can be stopped by a few mm of 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ioni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mma Radi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ve of electromagnetic radiation (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at light 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several metres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enetration power – Several cms of lead needed to stop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ionising power – because n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adi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ay that the different types of radiation can be distinguished is by observing their behaviour in a magnetic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0840" y="2403720"/>
            <a:ext cx="8038080" cy="4414680"/>
            <a:chOff x="60840" y="2403720"/>
            <a:chExt cx="8038080" cy="4414680"/>
          </a:xfrm>
        </p:grpSpPr>
        <p:sp>
          <p:nvSpPr>
            <p:cNvPr id="145" name=""/>
            <p:cNvSpPr/>
            <p:nvPr/>
          </p:nvSpPr>
          <p:spPr>
            <a:xfrm>
              <a:off x="2998080" y="4004280"/>
              <a:ext cx="465120" cy="465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12280" y="431496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5080" y="3386160"/>
              <a:ext cx="3576960" cy="261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40" y="4855320"/>
              <a:ext cx="6801840" cy="19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43280" y="4623120"/>
              <a:ext cx="624960" cy="625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63040" y="5784120"/>
              <a:ext cx="56160" cy="24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8240" y="5938920"/>
              <a:ext cx="7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7600" y="2924280"/>
              <a:ext cx="61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452960" y="2403000"/>
              <a:ext cx="4017600" cy="180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61760" y="4546800"/>
              <a:ext cx="432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70920" y="3155760"/>
              <a:ext cx="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Gree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 types of atoms, earth, air, fire,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Used these atoms to explain why things hap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g stones fell to the earth because they were made of earth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tomos = “indivisi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070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nucl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= element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= mass number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(the number of p+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= atomic number (the number of prot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48360" y="1766880"/>
                <a:ext cx="3456000" cy="31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ith the same atomic number but different mass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70040" y="3273480"/>
                <a:ext cx="4260600" cy="32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uterium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itiu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7200" y="2887560"/>
                <a:ext cx="128736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pha Dec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adium 226 decays to Radon 222 by alpha dec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Both mass and charge must be con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e 226=222+4,  88=86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4000" y="2997360"/>
                <a:ext cx="83534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ta Dec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balt 60 decays by beta decay to Nickel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mass and charge are con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.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ymbols can be used instead of He or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2637000"/>
                <a:ext cx="885672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 for the decay rate to have halved, o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taken for half of the original atoms to have dec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hown on a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87280" y="1341360"/>
          <a:ext cx="676944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7694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tecting 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iger Counter – detects electrical current caused by the ionisation of atoms in a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0200" y="3011400"/>
            <a:ext cx="8326440" cy="3354120"/>
            <a:chOff x="430200" y="3011400"/>
            <a:chExt cx="8326440" cy="3354120"/>
          </a:xfrm>
        </p:grpSpPr>
        <p:sp>
          <p:nvSpPr>
            <p:cNvPr id="177" name=""/>
            <p:cNvSpPr/>
            <p:nvPr/>
          </p:nvSpPr>
          <p:spPr>
            <a:xfrm rot="16200000">
              <a:off x="4751280" y="4473720"/>
              <a:ext cx="1224000" cy="1008000"/>
            </a:xfrm>
            <a:prstGeom prst="can">
              <a:avLst>
                <a:gd name="adj" fmla="val 50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131280" y="3358080"/>
              <a:ext cx="1079280" cy="3240360"/>
            </a:xfrm>
            <a:prstGeom prst="can">
              <a:avLst>
                <a:gd name="adj" fmla="val 11611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2360" y="4437000"/>
              <a:ext cx="360360" cy="1079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68360" y="501336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472428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522936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443640" y="3789000"/>
              <a:ext cx="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3640" y="522936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5920" y="5538960"/>
              <a:ext cx="14209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7080" y="3429000"/>
              <a:ext cx="1440000" cy="719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78936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3640" y="587700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5280" y="3765600"/>
              <a:ext cx="44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96200" y="5853240"/>
              <a:ext cx="44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756640" y="3776760"/>
              <a:ext cx="0" cy="207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16680" y="34322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V DC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5000" y="5518080"/>
              <a:ext cx="14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nter or speak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44760" y="5884920"/>
              <a:ext cx="25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 Anode: central w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7400" y="3152880"/>
              <a:ext cx="28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Cathode: metal cylin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39760" y="3011400"/>
              <a:ext cx="185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iger-Muller tube filled with low pressure 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0200" y="572292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d: thin mica wind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3000" y="3916440"/>
              <a:ext cx="743040" cy="8269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92040" y="3530520"/>
              <a:ext cx="343080" cy="9352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73600" y="5056200"/>
              <a:ext cx="31680" cy="830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560600" y="5259240"/>
              <a:ext cx="635040" cy="5083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es of Radio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therapy to treat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d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 medicine eg tra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large unstable nuclei into smaller 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possible combinations of fragments from one initial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363920"/>
                <a:ext cx="914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+</m:t>
                    </m:r>
                    <m:r>
                      <m:t xml:space="preserve">3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11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03000"/>
            <a:ext cx="263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one neutron is needed to start the reaction, but several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rt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chain re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38360" y="141120"/>
            <a:ext cx="6605640" cy="5333760"/>
            <a:chOff x="2538360" y="141120"/>
            <a:chExt cx="6605640" cy="5333760"/>
          </a:xfrm>
        </p:grpSpPr>
        <p:grpSp>
          <p:nvGrpSpPr>
            <p:cNvPr id="210" name=""/>
            <p:cNvGrpSpPr/>
            <p:nvPr/>
          </p:nvGrpSpPr>
          <p:grpSpPr>
            <a:xfrm>
              <a:off x="5549760" y="141120"/>
              <a:ext cx="365040" cy="368280"/>
              <a:chOff x="5549760" y="141120"/>
              <a:chExt cx="365040" cy="36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5549760" y="182520"/>
                <a:ext cx="322200" cy="3222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81440" y="141120"/>
                <a:ext cx="3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562120" y="2743200"/>
              <a:ext cx="6386400" cy="1320120"/>
              <a:chOff x="2562120" y="2743200"/>
              <a:chExt cx="6386400" cy="13201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2562120" y="2838600"/>
                <a:ext cx="2037960" cy="1224720"/>
                <a:chOff x="2562120" y="2838600"/>
                <a:chExt cx="2037960" cy="12247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256200" y="2838600"/>
                  <a:ext cx="561240" cy="562320"/>
                  <a:chOff x="3256200" y="2838600"/>
                  <a:chExt cx="561240" cy="562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256200" y="283860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04160" y="295704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2562120" y="3186720"/>
                  <a:ext cx="481680" cy="368280"/>
                  <a:chOff x="2562120" y="3186720"/>
                  <a:chExt cx="481680" cy="3682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592000" y="318816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562120" y="318672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4147200" y="3131280"/>
                  <a:ext cx="452880" cy="377640"/>
                  <a:chOff x="4147200" y="3131280"/>
                  <a:chExt cx="452880" cy="3776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4156920" y="313128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147200" y="314064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929680" y="3626640"/>
                  <a:ext cx="327240" cy="368280"/>
                  <a:chOff x="2929680" y="3626640"/>
                  <a:chExt cx="327240" cy="3682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929680" y="36637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959560" y="362664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3441600" y="3695040"/>
                  <a:ext cx="327240" cy="368280"/>
                  <a:chOff x="3441600" y="3695040"/>
                  <a:chExt cx="327240" cy="3682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441600" y="37321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469680" y="369504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944880" y="3636360"/>
                  <a:ext cx="327240" cy="368280"/>
                  <a:chOff x="3944880" y="3636360"/>
                  <a:chExt cx="327240" cy="3682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3944880" y="367344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974760" y="363636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flipH="1">
                  <a:off x="2919600" y="315972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3152160" y="335376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56800" y="341100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50840" y="330516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37600" y="313128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735440" y="2795760"/>
                <a:ext cx="2037960" cy="1224720"/>
                <a:chOff x="4735440" y="2795760"/>
                <a:chExt cx="2037960" cy="12247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429520" y="2795760"/>
                  <a:ext cx="561240" cy="562320"/>
                  <a:chOff x="5429520" y="2795760"/>
                  <a:chExt cx="561240" cy="5623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5429520" y="279576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577480" y="291420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735440" y="3143880"/>
                  <a:ext cx="481680" cy="368280"/>
                  <a:chOff x="4735440" y="3143880"/>
                  <a:chExt cx="481680" cy="3682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765320" y="314532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735440" y="314388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320520" y="3088440"/>
                  <a:ext cx="452880" cy="377640"/>
                  <a:chOff x="6320520" y="3088440"/>
                  <a:chExt cx="452880" cy="377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330240" y="308844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320520" y="309780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103000" y="3583800"/>
                  <a:ext cx="327240" cy="368280"/>
                  <a:chOff x="5103000" y="3583800"/>
                  <a:chExt cx="327240" cy="3682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103000" y="362088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132880" y="358380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614920" y="3652200"/>
                  <a:ext cx="327240" cy="368280"/>
                  <a:chOff x="5614920" y="3652200"/>
                  <a:chExt cx="327240" cy="3682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614920" y="368928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43000" y="365220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118200" y="3593520"/>
                  <a:ext cx="327240" cy="368280"/>
                  <a:chOff x="6118200" y="3593520"/>
                  <a:chExt cx="327240" cy="3682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6118200" y="363060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48080" y="359352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5092920" y="311688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325480" y="331092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30120" y="336816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24160" y="326232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10920" y="308844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910560" y="2743200"/>
                <a:ext cx="2037960" cy="1224720"/>
                <a:chOff x="6910560" y="2743200"/>
                <a:chExt cx="2037960" cy="12247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7604640" y="2743200"/>
                  <a:ext cx="561240" cy="562320"/>
                  <a:chOff x="7604640" y="2743200"/>
                  <a:chExt cx="561240" cy="5623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7604640" y="2743200"/>
                    <a:ext cx="561240" cy="5623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752600" y="2861640"/>
                    <a:ext cx="34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6910560" y="3091320"/>
                  <a:ext cx="481680" cy="368280"/>
                  <a:chOff x="6910560" y="3091320"/>
                  <a:chExt cx="481680" cy="3682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940440" y="3092760"/>
                    <a:ext cx="347400" cy="34812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910560" y="3091320"/>
                    <a:ext cx="481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B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8495640" y="3035880"/>
                  <a:ext cx="452880" cy="377640"/>
                  <a:chOff x="8495640" y="3035880"/>
                  <a:chExt cx="452880" cy="3776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8505360" y="3035880"/>
                    <a:ext cx="345960" cy="3564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8495640" y="3045240"/>
                    <a:ext cx="452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K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7278120" y="3531240"/>
                  <a:ext cx="327240" cy="368280"/>
                  <a:chOff x="7278120" y="3531240"/>
                  <a:chExt cx="327240" cy="3682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7278120" y="35683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308000" y="353124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790040" y="3599640"/>
                  <a:ext cx="327240" cy="368280"/>
                  <a:chOff x="7790040" y="3599640"/>
                  <a:chExt cx="327240" cy="3682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790040" y="363672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818120" y="3599640"/>
                    <a:ext cx="299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8293320" y="3540960"/>
                  <a:ext cx="327240" cy="368280"/>
                  <a:chOff x="8293320" y="3540960"/>
                  <a:chExt cx="327240" cy="36828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8293320" y="3578040"/>
                    <a:ext cx="289080" cy="2894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323200" y="3540960"/>
                    <a:ext cx="297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H="1">
                  <a:off x="7268040" y="3064320"/>
                  <a:ext cx="290880" cy="106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7500600" y="3258360"/>
                  <a:ext cx="183600" cy="318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905240" y="3315600"/>
                  <a:ext cx="0" cy="291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99280" y="3209760"/>
                  <a:ext cx="250560" cy="356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186040" y="3035880"/>
                  <a:ext cx="299160" cy="10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4756320" y="1085760"/>
              <a:ext cx="2037960" cy="1225080"/>
              <a:chOff x="4756320" y="1085760"/>
              <a:chExt cx="2037960" cy="1225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5450400" y="1085760"/>
                <a:ext cx="561240" cy="562320"/>
                <a:chOff x="5450400" y="1085760"/>
                <a:chExt cx="561240" cy="562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450400" y="1085760"/>
                  <a:ext cx="561240" cy="56232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98360" y="1204200"/>
                  <a:ext cx="34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56320" y="1434240"/>
                <a:ext cx="481680" cy="368280"/>
                <a:chOff x="4756320" y="1434240"/>
                <a:chExt cx="481680" cy="3682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86200" y="1435680"/>
                  <a:ext cx="347400" cy="34812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56320" y="1434240"/>
                  <a:ext cx="481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341400" y="1378440"/>
                <a:ext cx="452880" cy="377640"/>
                <a:chOff x="6341400" y="1378440"/>
                <a:chExt cx="452880" cy="377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351120" y="1378440"/>
                  <a:ext cx="345960" cy="3567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41400" y="1387800"/>
                  <a:ext cx="45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K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123880" y="1873800"/>
                <a:ext cx="327240" cy="368280"/>
                <a:chOff x="5123880" y="1873800"/>
                <a:chExt cx="327240" cy="36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123880" y="1910880"/>
                  <a:ext cx="289080" cy="2898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153760" y="1873800"/>
                  <a:ext cx="29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635800" y="1942560"/>
                <a:ext cx="327240" cy="368280"/>
                <a:chOff x="5635800" y="1942560"/>
                <a:chExt cx="327240" cy="368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635800" y="1979640"/>
                  <a:ext cx="289080" cy="28944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663880" y="1942560"/>
                  <a:ext cx="2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139080" y="1883880"/>
                <a:ext cx="327240" cy="368280"/>
                <a:chOff x="6139080" y="1883880"/>
                <a:chExt cx="327240" cy="368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139080" y="1920960"/>
                  <a:ext cx="289080" cy="2898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68960" y="1883880"/>
                  <a:ext cx="29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 flipH="1">
                <a:off x="5113800" y="1406880"/>
                <a:ext cx="290880" cy="10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346360" y="1601280"/>
                <a:ext cx="183600" cy="3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51000" y="1658160"/>
                <a:ext cx="0" cy="29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5040" y="1552680"/>
                <a:ext cx="250560" cy="35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1800" y="1378440"/>
                <a:ext cx="299160" cy="10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538360" y="4386240"/>
              <a:ext cx="6605640" cy="1088640"/>
              <a:chOff x="2538360" y="4386240"/>
              <a:chExt cx="6605640" cy="1088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8255160" y="4464000"/>
                <a:ext cx="888840" cy="550440"/>
                <a:chOff x="8255160" y="4464000"/>
                <a:chExt cx="888840" cy="550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8563680" y="4464000"/>
                  <a:ext cx="261000" cy="2613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55160" y="4626360"/>
                  <a:ext cx="161640" cy="1623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982360" y="4599720"/>
                  <a:ext cx="161640" cy="16596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412480" y="4848120"/>
                  <a:ext cx="13392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50080" y="4879440"/>
                  <a:ext cx="13500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884080" y="4852440"/>
                  <a:ext cx="133920" cy="1350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8406720" y="4613040"/>
                  <a:ext cx="135720" cy="5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8515800" y="4703760"/>
                  <a:ext cx="85680" cy="147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704080" y="4730400"/>
                  <a:ext cx="0" cy="13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794080" y="4681080"/>
                  <a:ext cx="116280" cy="16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834760" y="4599720"/>
                  <a:ext cx="138600" cy="4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538360" y="4386240"/>
                <a:ext cx="5859360" cy="1088640"/>
                <a:chOff x="2538360" y="4386240"/>
                <a:chExt cx="5859360" cy="108864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5443560" y="4535640"/>
                  <a:ext cx="888840" cy="550440"/>
                  <a:chOff x="5443560" y="4535640"/>
                  <a:chExt cx="888840" cy="5504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5752080" y="45356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443560" y="46980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170760" y="46713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600880" y="49197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38480" y="49510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072480" y="49240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5595120" y="46846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5704200" y="47754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92480" y="48020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982480" y="47527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023160" y="46713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108840" y="4924440"/>
                  <a:ext cx="888840" cy="550440"/>
                  <a:chOff x="6108840" y="4924440"/>
                  <a:chExt cx="888840" cy="550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417360" y="49244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108840" y="50868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836040" y="50601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266160" y="53085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503760" y="53398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737760" y="53128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6260400" y="50734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>
                    <a:off x="6369480" y="51642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557760" y="51908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647760" y="51415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688440" y="50601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810480" y="4441680"/>
                  <a:ext cx="888840" cy="550800"/>
                  <a:chOff x="6810480" y="4441680"/>
                  <a:chExt cx="888840" cy="5508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7119000" y="444168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810480" y="460404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537680" y="457740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67800" y="482580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205400" y="48574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439400" y="483012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>
                    <a:off x="6962040" y="459072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>
                    <a:off x="7071120" y="46818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259400" y="47084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349400" y="465876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390080" y="457740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508880" y="4871880"/>
                  <a:ext cx="888840" cy="550800"/>
                  <a:chOff x="7508880" y="4871880"/>
                  <a:chExt cx="888840" cy="550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7817400" y="487188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508880" y="503424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236080" y="500760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666200" y="525600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903800" y="52876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137800" y="526032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7660440" y="502092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7769520" y="51120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957800" y="51386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047800" y="508896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088480" y="500760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2538360" y="4386240"/>
                  <a:ext cx="889200" cy="550440"/>
                  <a:chOff x="2538360" y="4386240"/>
                  <a:chExt cx="889200" cy="55044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2846880" y="4386240"/>
                    <a:ext cx="26136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538360" y="45486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265920" y="45219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695680" y="477036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933640" y="48016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167640" y="477468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2689920" y="45352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>
                    <a:off x="2799000" y="46260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987280" y="46526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077640" y="46033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117960" y="45219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130560" y="4924440"/>
                  <a:ext cx="888840" cy="550440"/>
                  <a:chOff x="3130560" y="4924440"/>
                  <a:chExt cx="888840" cy="5504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439080" y="49244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130560" y="50868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857760" y="50601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287880" y="53085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525480" y="53398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759480" y="53128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3282120" y="50734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3391200" y="51642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579480" y="51908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669480" y="51415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710160" y="50601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3840120" y="4419720"/>
                  <a:ext cx="889200" cy="550440"/>
                  <a:chOff x="3840120" y="4419720"/>
                  <a:chExt cx="889200" cy="5504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4148640" y="4419720"/>
                    <a:ext cx="26136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840120" y="458208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567680" y="455544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97440" y="480384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235400" y="483516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469400" y="4808160"/>
                    <a:ext cx="13428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3991680" y="456876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4100760" y="465948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289040" y="468612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379400" y="463680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19720" y="455544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4659480" y="4883040"/>
                  <a:ext cx="888840" cy="550440"/>
                  <a:chOff x="4659480" y="4883040"/>
                  <a:chExt cx="888840" cy="5504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968000" y="4883040"/>
                    <a:ext cx="261000" cy="261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659480" y="5045400"/>
                    <a:ext cx="161640" cy="1623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86680" y="5018760"/>
                    <a:ext cx="161640" cy="16596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816800" y="526716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054400" y="5298480"/>
                    <a:ext cx="13500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88400" y="5271480"/>
                    <a:ext cx="133920" cy="13500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4811040" y="5032080"/>
                    <a:ext cx="135720" cy="50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4920120" y="5122800"/>
                    <a:ext cx="85680" cy="147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108400" y="514944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198400" y="5100120"/>
                    <a:ext cx="116280" cy="16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239080" y="5018760"/>
                    <a:ext cx="138600" cy="4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"/>
            <p:cNvSpPr/>
            <p:nvPr/>
          </p:nvSpPr>
          <p:spPr>
            <a:xfrm>
              <a:off x="5734080" y="504720"/>
              <a:ext cx="0" cy="57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625920" y="2141640"/>
              <a:ext cx="149544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725800" y="2292480"/>
              <a:ext cx="42840" cy="47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80280" y="2185920"/>
              <a:ext cx="129996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968560" y="3970440"/>
              <a:ext cx="76320" cy="40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3582720" y="4022640"/>
              <a:ext cx="2052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30640" y="3959280"/>
              <a:ext cx="96840" cy="44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076360" y="3905280"/>
              <a:ext cx="173160" cy="96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54600" y="3979800"/>
              <a:ext cx="968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26280" y="3925800"/>
              <a:ext cx="214200" cy="97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60840" y="3862440"/>
              <a:ext cx="150840" cy="56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39080" y="3948120"/>
              <a:ext cx="0" cy="90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88440" y="3862440"/>
              <a:ext cx="203040" cy="58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Early 1800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John Dalton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, an observer of weather and discoverer of color blindness among other things, came up with </a:t>
            </a: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atomic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 matter is made up of </a:t>
            </a: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mall indivisble particle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known as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“atom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toms were solid 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rew the first molecular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2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hain reaction is controlled it can be used in a nuclear re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uncontrolled it explodes as a nuclear or atomic b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oining of two small nuclei to form one larger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a lot of energy is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process that powers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60240" y="4500720"/>
                <a:ext cx="813924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 requires extreme temperature and pressure to occur, and has not practically and economically been used in power generation (yet…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mbs have been successfully made, but require a fission reaction to provide the necessary temp and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13916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J. Thompson (1856 -194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the “mysterious cathode 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3 he proposed the “Plum pudding model” for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om is a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phere of positively charg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ter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bedded like the currents in a “plum pud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90476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pson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73480" y="1600200"/>
            <a:ext cx="4397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nest Rutherf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for h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is mainly empty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dense positively charged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s orbiting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is the model you have to be able to explain for this achievement stand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89680" y="260280"/>
            <a:ext cx="20480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nce Rutherford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ith the help of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quantum theory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hat was being developed by </a:t>
            </a:r>
            <a:r>
              <a:rPr b="0" lang="en-NZ" sz="2800" spc="-1" strike="noStrike">
                <a:solidFill>
                  <a:srgbClr val="666699"/>
                </a:solidFill>
                <a:latin typeface="Arial"/>
              </a:rPr>
              <a:t>Planck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instein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nd others, the model continued to evol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Neils Boh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13):  electrons occupy fixed energy levels (not fixed posi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0099"/>
                </a:solidFill>
                <a:latin typeface="Arial"/>
              </a:rPr>
              <a:t>Louis de Broglie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24):  electrons are w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6600"/>
                </a:solidFill>
                <a:latin typeface="Arial"/>
              </a:rPr>
              <a:t>Erwin Schroding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25):  electrons are matter waves whose position is based on a statistical probability (enter quantum mechan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99ff"/>
                </a:solidFill>
                <a:latin typeface="Arial"/>
              </a:rPr>
              <a:t>Chadwick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1935): Discovers the neut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utherford’s Gold Foil Experi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ired alpha particles at a very thin piece of gold foil and measured the angles they were scattered 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13372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bserva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assed right through the gold 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planation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mostly empty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1:47:33Z</dcterms:created>
  <dc:creator>Administrator</dc:creator>
  <dc:description/>
  <dc:language>en-US</dc:language>
  <cp:lastModifiedBy> Maree</cp:lastModifiedBy>
  <dcterms:modified xsi:type="dcterms:W3CDTF">2005-10-07T06:58:38Z</dcterms:modified>
  <cp:revision>13</cp:revision>
  <dc:subject/>
  <dc:title>Atomic Models and Radio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4072298</vt:r8>
  </property>
  <property fmtid="{D5CDD505-2E9C-101B-9397-08002B2CF9AE}" pid="3" name="_AuthorEmail">
    <vt:lpwstr>garyvercoe@paradise.net.nz</vt:lpwstr>
  </property>
  <property fmtid="{D5CDD505-2E9C-101B-9397-08002B2CF9AE}" pid="4" name="_AuthorEmailDisplayName">
    <vt:lpwstr>Maree &amp; Gary</vt:lpwstr>
  </property>
  <property fmtid="{D5CDD505-2E9C-101B-9397-08002B2CF9AE}" pid="5" name="_EmailSubject">
    <vt:lpwstr>stuff</vt:lpwstr>
  </property>
</Properties>
</file>